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1CEC-EAFB-417F-BFDA-4878C72EB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4590-8293-435C-9234-367FED04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6B8-611A-4BD3-838B-5BC0EE84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D71D-0BE1-4386-9AA3-3BBC3DE0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6DA1-D42B-4671-9908-A2F96143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D1BC-46E8-4972-BAFD-CE6BED25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99D0-5154-4B4B-8360-7DC8ACB7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380F-478C-421C-9515-38A78F42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690D-2BEA-4E20-A396-D5BF2E39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C227-9567-4BD3-A24E-377FB8EA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2375-3EAB-4E3D-80C4-D6CAFCBD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5B9-C29E-401E-931C-46C2FEFA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AB7E-F137-4782-82FC-D8FA6E61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9F27-D58A-40F4-9976-0D196FD6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945B-0AB2-4915-9C1F-76319148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AF71-BFF4-45B9-8AF7-3FDBF3EA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5E65-54CD-4B88-BCFF-7C030D14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AF3-CA7D-480E-A4DA-41A5B0B6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0E5B-7FF0-438A-AFE2-E82411A8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E2B-FE29-47F0-A22C-FCD6D54A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7ABC-8DB3-4427-AEE7-041F5637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5579-08DD-4B68-8BC2-1D07EFC1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909C-C665-48B2-999B-AC4112B4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BA2-3D7F-4557-9A1D-4D5FD1A6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C425-1E83-4BAF-81BE-27E3002DCD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3BBF-C984-462D-9B13-0AE3BEFC08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"/>
              </a:rPr>
              <a:t>La clase de espan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adder ITC"/>
              </a:rPr>
              <a:t>Br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adder ITC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Abra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c0039"/>
                </a:solidFill>
                <a:latin typeface="comic"/>
              </a:rPr>
              <a:t>las familas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37920" y="1600200"/>
            <a:ext cx="3141720" cy="4495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97000" y="1600200"/>
            <a:ext cx="31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hi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her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r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r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3200400" cy="4495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39"/>
                </a:solidFill>
                <a:latin typeface="comic"/>
              </a:rPr>
              <a:t>Los deporte’s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97000" y="1600200"/>
            <a:ext cx="31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fu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futbol america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bas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8:33:09Z</dcterms:created>
  <dc:creator>WSFCS Workstation</dc:creator>
  <dc:description/>
  <dc:language>en-US</dc:language>
  <cp:lastModifiedBy>WSFCS Workstation</cp:lastModifiedBy>
  <dcterms:modified xsi:type="dcterms:W3CDTF">2010-04-30T18:57:09Z</dcterms:modified>
  <cp:revision>4</cp:revision>
  <dc:subject/>
  <dc:title>La clase de espanol</dc:title>
</cp:coreProperties>
</file>